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8B9-0E3F-4B47-B57F-A633BDA32FD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865-C34A-46C3-AD7B-96EB1ABFCA3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6EA0-0D25-48A8-8E6A-2E40CD10559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DD7-473A-48C8-A2C2-8225653C6DD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E81B-0FA4-44D7-865C-F3F2511A515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110-84F2-4B3F-AA05-4DA9C89B8C8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705-424C-49FF-9551-B84C7563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A03-CFAC-4BD9-B63C-14E7DC0C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DD0-85B4-4A83-931F-2AD880F0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016-FF1E-444D-ACA7-D2C6E0F8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0F4-6146-419C-A965-DCBC60E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47B-A0AF-41CF-A68A-B2F370F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8D3-4938-476C-B41F-97DA2D11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1FA-C8AF-41FF-A4DE-E60BBB0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879-6016-4F24-A94C-95AEB49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2F5-9B00-405D-8FE5-39CFBC4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9F2-0508-458D-8E8C-7278573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85F-696D-43D8-97E6-CBBD21C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2F1-8E3E-49E2-8EF1-1D60EFF0160B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dding and Subtracting Unlike Frac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fferent Denominator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problem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write the problem with equivalent frac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st the multiples of both denominator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nd the least common multiple (LCM)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rite new fractions with the LCM as the new denomin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nd the factor you multiply by to get from your original denominator to your new denomin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e that same factor, and multiply it by your original numerator to get a new numer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DOES THAT MEAN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371600" y="1752480"/>
            <a:ext cx="6324480" cy="10688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08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illustrate the steps with an examp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98108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4343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447920" y="434340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581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724280" y="3429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24280" y="4419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267080" y="441972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43828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362320" y="1447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905120" y="144792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03848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81480" y="533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18148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724280" y="15238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5181480"/>
            <a:ext cx="42670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s of 4: 4, 8, 12, 16, 2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0" y="5715000"/>
            <a:ext cx="42670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s of 6: 6, 12, 18, 24, 3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2514600" y="5181480"/>
            <a:ext cx="53352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2209680" y="5715000"/>
            <a:ext cx="53352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1981080" y="35812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03848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876920" y="35812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51460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81480" y="3505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7" name="AutoShape 21"/>
          <p:cNvCxnSpPr>
            <a:stCxn id="62" idx="1"/>
            <a:endCxn id="75" idx="1"/>
          </p:cNvCxnSpPr>
          <p:nvPr/>
        </p:nvCxnSpPr>
        <p:spPr>
          <a:xfrm flipH="1" flipV="1" rot="10800000">
            <a:off x="2361240" y="1949760"/>
            <a:ext cx="153000" cy="2057760"/>
          </a:xfrm>
          <a:prstGeom prst="bentConnector3">
            <a:avLst>
              <a:gd name="adj1" fmla="val -15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8" name="Text Box 22"/>
          <p:cNvSpPr/>
          <p:nvPr/>
        </p:nvSpPr>
        <p:spPr>
          <a:xfrm>
            <a:off x="914400" y="2666880"/>
            <a:ext cx="838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6668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80" name="AutoShape 26"/>
          <p:cNvCxnSpPr/>
          <p:nvPr/>
        </p:nvCxnSpPr>
        <p:spPr>
          <a:xfrm>
            <a:off x="5943600" y="2133360"/>
            <a:ext cx="534240" cy="1981800"/>
          </a:xfrm>
          <a:prstGeom prst="bentConnector3">
            <a:avLst>
              <a:gd name="adj1" fmla="val 254146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1" name="Text Box 27"/>
          <p:cNvSpPr/>
          <p:nvPr/>
        </p:nvSpPr>
        <p:spPr>
          <a:xfrm>
            <a:off x="7620120" y="2895480"/>
            <a:ext cx="761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5562720" y="548640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594360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5943600" y="4419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ample 2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1143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685800" y="22096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22096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2209680" y="2209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8120" y="12193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>
            <a:off x="2743200" y="22096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971800" y="2133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19920" y="1295280"/>
            <a:ext cx="25905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20, 30, 40, 5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019920" y="1828800"/>
            <a:ext cx="25905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, 10, 15, 20, 2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6019920" y="1295280"/>
            <a:ext cx="53316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6324480" y="1828800"/>
            <a:ext cx="53352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762120" y="4267080"/>
            <a:ext cx="1218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2286000" y="42670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2895480" y="4267080"/>
            <a:ext cx="1371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914400" y="41148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3124080" y="4114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3" name="AutoShape 20"/>
          <p:cNvCxnSpPr>
            <a:stCxn id="89" idx="1"/>
            <a:endCxn id="101" idx="1"/>
          </p:cNvCxnSpPr>
          <p:nvPr/>
        </p:nvCxnSpPr>
        <p:spPr>
          <a:xfrm flipH="1" flipV="1" rot="10800000">
            <a:off x="684720" y="2712600"/>
            <a:ext cx="229320" cy="1905840"/>
          </a:xfrm>
          <a:prstGeom prst="bentConnector3">
            <a:avLst>
              <a:gd name="adj1" fmla="val -1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4" name="Text Box 21"/>
          <p:cNvSpPr/>
          <p:nvPr/>
        </p:nvSpPr>
        <p:spPr>
          <a:xfrm>
            <a:off x="0" y="320040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1066680" y="3352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6" name="AutoShape 23"/>
          <p:cNvCxnSpPr>
            <a:stCxn id="93" idx="3"/>
            <a:endCxn id="102" idx="3"/>
          </p:cNvCxnSpPr>
          <p:nvPr/>
        </p:nvCxnSpPr>
        <p:spPr>
          <a:xfrm>
            <a:off x="3733920" y="2636640"/>
            <a:ext cx="457920" cy="1981800"/>
          </a:xfrm>
          <a:prstGeom prst="bentConnector3">
            <a:avLst>
              <a:gd name="adj1" fmla="val 21487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7" name="Text Box 24"/>
          <p:cNvSpPr/>
          <p:nvPr/>
        </p:nvSpPr>
        <p:spPr>
          <a:xfrm>
            <a:off x="4648320" y="3200400"/>
            <a:ext cx="76176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200400" y="3352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57150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6705720" y="41911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0" y="41148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010280" y="3124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55627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6781680" y="594360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7162920" y="5029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162920" y="58514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0:15:48Z</dcterms:created>
  <dc:creator>Administrator</dc:creator>
  <dc:description/>
  <dc:language>en-US</dc:language>
  <cp:lastModifiedBy>Home</cp:lastModifiedBy>
  <dcterms:modified xsi:type="dcterms:W3CDTF">2010-11-14T16:36:47Z</dcterms:modified>
  <cp:revision>27</cp:revision>
  <dc:subject/>
  <dc:title>Adding and Subtracting Unlike Fractions</dc:title>
</cp:coreProperties>
</file>